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F233-A003-4758-935B-9AD9CA530B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D6FD-B8C6-418A-8099-2C2A71E6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4206-D6E5-4A59-A2D0-BAE881CE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873A-101D-4CD1-ADF6-61C84B5306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647DF-C3F0-4D5A-BF52-E5923726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722C-FCE1-4A8C-8A9C-3B4E6BA6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FEB3-E6AF-457A-AD54-67C2F57C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D425-0D9E-48C6-B474-9CA1D90A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9395-FDD5-41D1-B05E-88945C5E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2838-E29E-4A27-A327-DCBEC956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6364D-8953-4A31-BFE0-2C112557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3FF9-4BBF-421F-BE26-BF9C9FF7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3508-32CA-4FA5-9E33-9E10F444F9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878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切除术：用于癌肿广泛浸润并转移、不能完全切除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胃癌，经积极术前准备后拟行胃癌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应如何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  与疼痛、患者对癌症的恐惧心理、治疗效果和预后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长期食欲减退、消化吸收不良及癌肿导致的消耗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出血、十二指肠残端破裂、吻合口瘘、胃排空障碍、消化道梗阻、倾倒综合征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给患者口服肠道不吸收的抗生素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晚清洁灌肠，有幽门梗阻的患者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起每晚用温生理盐水洗胃，以减轻胃黏膜的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十二指肠残端破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吻合口破裂或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残胃蠕动无力或称胃排空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梗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倾倒综合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umping syndrom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: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由于胃大部分切除术后，失去对胃排空的控制，导致胃排空过速所产生的一系列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不明确，可能与地域环境与饮食生活习惯、幽门螺杆菌感染、癌前疾病和癌前病变及遗传和基因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胃癌多无明显症状，随病情进展，症状日益加重，常有上腹疼痛、食欲不振、呕吐、乏力、消瘦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胃癌的转移途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胃癌的临床特点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胃癌术后的常见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胃癌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辅以化疗、放疗、免疫治疗等综合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应缓解患者情绪，改善营养状况，做好胃肠道和呼吸道准备。术后要做好病情观察，胃肠减压管和腹腔引流管的护理，鼓励功能锻炼，给予营养支持，重点预防各种并发症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前开始出现上腹部隐痛不适，进食后明显，伴饱胀感，食欲逐渐下降，无明显恶心、呕吐及呕血，当地医院按“胃炎”进行治疗，稍好转。近半月自觉乏力，体重较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月前下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k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近日粪便色黑而就诊，查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大便潜血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查血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b 96g/L,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进一步诊治收入院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一般状况尚可，浅表淋巴结未及肿大，皮肤无黄染，结膜甲床苍白，腹平坦，未见胃肠型及蠕动波，腹软，肝脾未及，腹部未及包块，剑突下区域深压痛，移动性浊音（－），肠鸣音正常，直肠指检未及异常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钡餐检查：胃窦小弯侧似见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龛影，位于胃轮廓内，周围粘膜僵硬粗糙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：未见肝异常，胃肠部分检查不满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胃癌多无明显症状，部分患者可有上腹隐痛、嗳气、反酸、食欲减退等症状，无特异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癌扩散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纤维胃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螺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幽门螺杆菌感染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良性胃部疾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在胃大部切除后将残胃与十二指肠吻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796000" y="1125360"/>
            <a:ext cx="3168720" cy="46292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2"/>
          <p:cNvSpPr/>
          <p:nvPr/>
        </p:nvSpPr>
        <p:spPr>
          <a:xfrm>
            <a:off x="6369120" y="595620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I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4991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式胃大部切除术：即胃大部切除后残胃与空肠吻合，十二指肠残端关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012000" y="5300640"/>
            <a:ext cx="27748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毕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II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</a:rPr>
              <a:t>式胃大部切除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829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胃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520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大部切除后胃空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oux-en-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吻合术：即胃大部切除后关闭十二指肠残端，在距十二指肠悬韧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切断空肠，将残胃和远端空肠吻合，距此吻合口以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与空肠近侧断端吻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530680" y="1268280"/>
            <a:ext cx="3149640" cy="43578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5530680" y="5877000"/>
            <a:ext cx="36133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胃大部切除后胃空肠</a:t>
            </a:r>
            <a:r>
              <a:rPr b="0" lang="en-US" sz="1600" spc="-1" strike="noStrike">
                <a:solidFill>
                  <a:srgbClr val="046ca6"/>
                </a:solidFill>
                <a:latin typeface="Calibri"/>
              </a:rPr>
              <a:t>Roux-en-Y</a:t>
            </a:r>
            <a:r>
              <a:rPr b="0" lang="zh-CN" sz="1600" spc="-1" strike="noStrike">
                <a:solidFill>
                  <a:srgbClr val="046ca6"/>
                </a:solidFill>
                <a:latin typeface="Calibri"/>
              </a:rPr>
              <a:t>吻合术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8:39Z</dcterms:modified>
  <cp:revision>87</cp:revision>
  <dc:subject/>
  <dc:title>内科护理学</dc:title>
</cp:coreProperties>
</file>